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D9B3-8B24-4922-B6A3-5CADAEF0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759A-D395-49A6-AFCD-06F379C6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BA30-0EF5-4178-A4DA-A112EB7B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FE33-9D80-400A-A992-3FC51E19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19DA-E04E-4F39-A429-1EE8CC77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25F3-C836-4250-BAB1-73E796D6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6968-E78F-40D7-881F-C88D9A41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AA33-89F5-43C0-8234-8DCEE7A7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229-6BDF-4E49-948E-938AE338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4E95-A907-4942-A8FA-F290266C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A949-2F75-4778-AD35-57A6DA38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8A9-4AA0-4242-9773-16260553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4AF1-C3BF-41BE-9288-0B2D55F77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3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5238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Propert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ity to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roduce a change in the composition (make up) of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22860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an only observ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se changes when substances in a sample of matter are changing into different sub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3200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 examples of chemical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3657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How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flammable a material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40384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lammability –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aterials ability to burn in presence of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48769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good, or b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eactivity = how readily (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asy) a substance combines chemically with other sub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1600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xygen – high reactivity; nitrogen – lo re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22096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ognizing Chemical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590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hemical change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ake place when a substance </a:t>
            </a:r>
            <a:r>
              <a:rPr b="1" lang="en-US" sz="2400" spc="-1" strike="noStrike" u="sng">
                <a:solidFill>
                  <a:srgbClr val="996600"/>
                </a:solidFill>
                <a:uFillTx/>
                <a:latin typeface="Times New Roman"/>
              </a:rPr>
              <a:t>reacts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 and forms a </a:t>
            </a:r>
            <a:r>
              <a:rPr b="1" lang="en-US" sz="2400" spc="-1" strike="noStrike" u="sng">
                <a:solidFill>
                  <a:srgbClr val="996600"/>
                </a:solidFill>
                <a:uFillTx/>
                <a:latin typeface="Times New Roman"/>
              </a:rPr>
              <a:t>new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 sub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3505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vidence for chem.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0384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hange in color –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X: copper roof on house (figure 19, pg. 5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4876920"/>
            <a:ext cx="75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roduction of a gas –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x: vinegar and baking soda </a:t>
            </a:r>
            <a:r>
              <a:rPr b="0" lang="en-US" sz="2400" spc="-1" strike="noStrike">
                <a:solidFill>
                  <a:srgbClr val="9966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9966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Formation of a precipitate –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 solid which form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nd separates from a liquid EX: acid and mil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2286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look a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 composition (make-up), is there a change of the matter into something ne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297180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?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hem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? 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5238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tell if a change is physical or chem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 Unknown substance cannot be broken down into a simpler substance, i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CorShape1"/>
          <p:cNvSpPr/>
          <p:nvPr/>
        </p:nvSpPr>
        <p:spPr>
          <a:xfrm>
            <a:off x="223920" y="398304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l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of one kind of 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2 and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a heterogenous mi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in a swimming p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ar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jar of mixed n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inless st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orShape1"/>
          <p:cNvSpPr/>
          <p:nvPr/>
        </p:nvSpPr>
        <p:spPr>
          <a:xfrm>
            <a:off x="254160" y="3182760"/>
            <a:ext cx="253800" cy="2541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NOT a pure subst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CorShape1"/>
          <p:cNvSpPr/>
          <p:nvPr/>
        </p:nvSpPr>
        <p:spPr>
          <a:xfrm>
            <a:off x="223920" y="174312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terial that is malleable and conducts electricity is most lik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CorShape1"/>
          <p:cNvSpPr/>
          <p:nvPr/>
        </p:nvSpPr>
        <p:spPr>
          <a:xfrm>
            <a:off x="2590920" y="236232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or 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a physical ch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TPChart"/>
          <p:cNvGraphicFramePr/>
          <p:nvPr/>
        </p:nvGraphicFramePr>
        <p:xfrm>
          <a:off x="609480" y="1841400"/>
          <a:ext cx="8661600" cy="25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41400"/>
                    <a:ext cx="8661600" cy="25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wing a piece of wood in ha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ning a piece of 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st forming on an iron 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pper roof changing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CorShape1"/>
          <p:cNvSpPr/>
          <p:nvPr/>
        </p:nvSpPr>
        <p:spPr>
          <a:xfrm>
            <a:off x="1163520" y="2124000"/>
            <a:ext cx="29232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evidence of a chemical ch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TPChart"/>
          <p:cNvGraphicFramePr/>
          <p:nvPr/>
        </p:nvGraphicFramePr>
        <p:xfrm>
          <a:off x="609480" y="1828800"/>
          <a:ext cx="8661600" cy="31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661600" cy="31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CorShape1"/>
          <p:cNvSpPr/>
          <p:nvPr/>
        </p:nvSpPr>
        <p:spPr>
          <a:xfrm>
            <a:off x="990720" y="4167360"/>
            <a:ext cx="507960" cy="50796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n changes color when h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 bubbles form in boiling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ls of wax form when melted wax is poured into ice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as forms when vinegar and baking soda are mix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8:05:59Z</dcterms:created>
  <dc:creator>Farwell Area Schools</dc:creator>
  <dc:description/>
  <dc:language>en-US</dc:language>
  <cp:lastModifiedBy>Customer</cp:lastModifiedBy>
  <dcterms:modified xsi:type="dcterms:W3CDTF">2009-10-12T12:41:41Z</dcterms:modified>
  <cp:revision>16</cp:revision>
  <dc:subject/>
  <dc:title>Note Guide 3-3</dc:title>
</cp:coreProperties>
</file>